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960350" cy="97202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0E2-BE1C-4117-BD9A-A64A1308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1165860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280" y="5622840"/>
            <a:ext cx="1165860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BA15-C637-4BF2-9636-C3D995E5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28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2112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FE1-4233-456C-9C49-A22649C3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88920" y="227448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30920" y="227448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280" y="562284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88920" y="562284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30920" y="5622840"/>
            <a:ext cx="37537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DEF8-880E-4223-B813-A5DA369D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280" y="2274480"/>
            <a:ext cx="1165860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C00A-1509-4EE8-93BB-75CC8B58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1165860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DA8-578D-45C4-8C45-D5B95EAB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89BB-C247-4F3C-84A1-3B2BB74D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C4E-D2B2-49AB-8C5C-E5BC4C36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387000"/>
            <a:ext cx="11658600" cy="74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4327-A5BA-4173-94C1-30248A9C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28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DA2C-ABC8-45F5-BE60-2C975F2E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21120" y="562284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6F5D-ABEF-4325-927D-AE2B1288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28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21120" y="2274480"/>
            <a:ext cx="568908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280" y="5622840"/>
            <a:ext cx="1165860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B947-A939-4798-A8B5-BE4963A8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280" y="387000"/>
            <a:ext cx="1165860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280" y="2274480"/>
            <a:ext cx="11658600" cy="641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8854920"/>
            <a:ext cx="30146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31960" y="8854920"/>
            <a:ext cx="41036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91600" y="8854920"/>
            <a:ext cx="30146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A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BFE3C-C6A5-4CAF-928C-C5CD9F062CFB}" type="slidenum">
              <a:rPr b="0" lang="es-A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12995280" cy="9720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92360" y="2916360"/>
            <a:ext cx="59403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Frutiger Next LT W1G"/>
              </a:rPr>
              <a:t>TEXTO EDITABLE – TIT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Frutiger Next LT W1G"/>
              </a:rPr>
              <a:t>Texto Editable Subtítu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1160" y="7920"/>
            <a:ext cx="12953880" cy="972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12995280" cy="972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87640" y="3060720"/>
            <a:ext cx="594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56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Frutiger Next LT W1G"/>
              </a:rPr>
              <a:t>Texto Editable Cier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21:26:09Z</dcterms:created>
  <dc:creator>Flor No</dc:creator>
  <dc:description/>
  <dc:language>en-US</dc:language>
  <cp:lastModifiedBy/>
  <cp:revision>1</cp:revision>
  <dc:subject/>
  <dc:title/>
</cp:coreProperties>
</file>