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4BB-3032-4E7F-8AE0-E788456A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116571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480"/>
            <a:ext cx="116571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71D-A78D-4832-905E-4FD02385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48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0400" y="562248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BE1-9D4F-4154-8978-84FB79B8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560" y="227484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200" y="227484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48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560" y="562248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200" y="5622480"/>
            <a:ext cx="3753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DF5-AF6E-4A5C-92B9-6ABE491B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840"/>
            <a:ext cx="116571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BD0-39B6-480F-9FAB-B35F2EE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116571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21D-DE25-4595-AC7A-5EA6D5D7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5688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0400" y="2274840"/>
            <a:ext cx="5688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F67-524E-401B-8F15-1B8C5BB3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AD9-4F6F-462E-A2F5-9E5B48D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7160" cy="74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DD6-39D7-4C37-8994-8955EDD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0400" y="2274840"/>
            <a:ext cx="5688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48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79C-432C-4ADB-9CE8-A6F4129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5688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040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0400" y="562248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F84-D74A-44DE-9BDD-9AAA3B04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0400" y="2274840"/>
            <a:ext cx="56883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480"/>
            <a:ext cx="11657160" cy="305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574-B8B0-4C27-A36D-0AA6F06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7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840"/>
            <a:ext cx="116571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3200" cy="6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2200" cy="6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3200" cy="6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6104-B448-4F44-8B59-27AD16A98775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2960360" cy="972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60360" cy="972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60360" cy="972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1:26:09Z</dcterms:created>
  <dc:creator>Flor No</dc:creator>
  <dc:description/>
  <dc:language>en-US</dc:language>
  <cp:lastModifiedBy/>
  <cp:revision>1</cp:revision>
  <dc:subject/>
  <dc:title/>
</cp:coreProperties>
</file>