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E0281-F030-4184-9C1A-913D4B33D4C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FF691-E03B-42D5-9337-95EAB00BD952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5D9D2-F32E-408C-9665-78AADF59645A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6B293-4FE7-47F1-8FE5-23C73C60FAE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548-452C-47F3-9CEB-32EA1005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203-59B9-4E27-BF87-9015013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141-F288-4CA0-BF20-FA6B3EC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7DC-F6D0-4AA8-AA53-5AEC822C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CA1-8CAB-4958-9D3A-35B9DD77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51A-D7DF-472C-9AB2-1FA56A65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D6E-DD28-46BC-9954-CA2377E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C20-146B-4F67-87FD-EA3F568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8600" cy="74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0A8-CC10-42B4-A853-AD790290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C51-5311-4557-B71A-D5BF2E4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37E-E8F2-4397-83C6-917CB0ED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185-1536-4052-89CA-F94F5792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3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1374-9E61-4CFB-8B25-D99C23C660C1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12957120" cy="972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692360" y="2916360"/>
            <a:ext cx="5940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Frutiger Next LT W1G"/>
              </a:rPr>
              <a:t>TEXTO EDITABLE – TIT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Subtítul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12957120" cy="972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12957120" cy="9721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087640" y="3060720"/>
            <a:ext cx="59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Cier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1:26:09Z</dcterms:created>
  <dc:creator>Flor No</dc:creator>
  <dc:description/>
  <dc:language>en-US</dc:language>
  <cp:lastModifiedBy>Alejandra Barreiro</cp:lastModifiedBy>
  <dcterms:modified xsi:type="dcterms:W3CDTF">2014-05-15T16:44:30Z</dcterms:modified>
  <cp:revision>2</cp:revision>
  <dc:subject/>
  <dc:title>PowerPoint Presentation</dc:title>
</cp:coreProperties>
</file>