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960350" cy="97202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929-198A-4E67-A3A9-37BD6643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A3B-0AA5-492E-862D-2E7ADA9F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481-4A69-4E82-90C9-E0D89AF6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8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0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8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0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1F3-6511-448E-9222-89C5B838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667-D28C-4284-A4E8-CEA0A766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F99-4A60-4A5E-A7ED-8EBF69A6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C83-B733-4FF8-822A-F0A05BEC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0BE-9B8D-4122-9BE7-E5FA7207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7000"/>
            <a:ext cx="11658600" cy="74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F05-146B-4607-A1FF-212C2044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0C0-F4FC-4212-8E7C-23CA984A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CB5-A916-48B8-8D05-A1261689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220-6939-4C3B-81F3-2AAB13F5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1960" y="8854920"/>
            <a:ext cx="4103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160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746BF-6E6F-4186-B6CF-708BAB2C4535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12995280" cy="972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2916360"/>
            <a:ext cx="59403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Frutiger Next LT W1G"/>
              </a:rPr>
              <a:t>TEXTO EDITABLE – TIT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Subtí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7920"/>
            <a:ext cx="12953880" cy="972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12995280" cy="972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87640" y="3060720"/>
            <a:ext cx="594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Cier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20:13:43Z</dcterms:created>
  <dc:creator>Flor No</dc:creator>
  <dc:description/>
  <dc:language>en-US</dc:language>
  <cp:lastModifiedBy>Flor No</cp:lastModifiedBy>
  <dcterms:modified xsi:type="dcterms:W3CDTF">2013-05-27T14:14:55Z</dcterms:modified>
  <cp:revision>3</cp:revision>
  <dc:subject/>
  <dc:title/>
</cp:coreProperties>
</file>